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C075-B08C-46A6-B911-CF3C6C313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D955-387E-433D-A5CB-53B34011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228B-1019-42E2-84AB-360B0BC68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7E79-026F-40C3-A005-452DA49F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7C55-3115-416F-B17E-9232B608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2457-A37B-409D-A5F6-B91B944D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2A20-28C7-49BA-B95E-5C0BC557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B801-DE89-4D9D-8972-4561F36A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C8F6-88F7-4323-9865-7F8CDADA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4FE5-4033-48D4-A4C4-A4A33982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5CEF-9971-48DD-A9F6-F61F9630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CC81-B6FA-4ADC-99D0-40C80B01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4628-04EF-4E9A-AE45-2A8A2C88C68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1280" y="146160"/>
            <a:ext cx="907272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181080" y="44280"/>
            <a:ext cx="9506160" cy="678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24000" y="44280"/>
            <a:ext cx="9415440" cy="676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13:17:49Z</dcterms:created>
  <dc:creator>Admin</dc:creator>
  <dc:description/>
  <dc:language>en-US</dc:language>
  <cp:lastModifiedBy>Admin</cp:lastModifiedBy>
  <dcterms:modified xsi:type="dcterms:W3CDTF">2007-10-01T13:18:57Z</dcterms:modified>
  <cp:revision>1</cp:revision>
  <dc:subject/>
  <dc:title>Diapositiva 1</dc:title>
</cp:coreProperties>
</file>