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34E-DF89-462D-88EC-DEB95C9A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C0C-AEE7-489E-8142-0037137A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117-D4A6-42A9-8811-4DEBB0EE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E0A1-5BCB-4BC7-9DE1-6AC97F52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2F9-6CBD-4A0A-865A-077B3219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455-015E-4C60-AA5E-BB6F9E50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4BA-A47C-4AEF-A984-7371F585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1020-762B-4CC2-BEEB-32EA8F32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4ADB-A960-4238-9902-1C29ECFB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9EB-FFA5-4D7B-9A68-F3A30D03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F207-DD1C-47BF-963F-7D823641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5B4-921B-4879-9B91-C01FC0C1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101D-A9DB-46B4-8F8E-8BF698E564C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1280" y="146160"/>
            <a:ext cx="90727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81080" y="44280"/>
            <a:ext cx="9506160" cy="67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44280"/>
            <a:ext cx="941544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3:17:49Z</dcterms:created>
  <dc:creator>Admin</dc:creator>
  <dc:description/>
  <dc:language>en-US</dc:language>
  <cp:lastModifiedBy>Admin</cp:lastModifiedBy>
  <dcterms:modified xsi:type="dcterms:W3CDTF">2007-10-01T13:18:57Z</dcterms:modified>
  <cp:revision>1</cp:revision>
  <dc:subject/>
  <dc:title>Diapositiva 1</dc:title>
</cp:coreProperties>
</file>